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A54-E192-452C-AC73-EBB81B58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356-4EB5-462A-A924-82A6CE73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5A0-A8CC-406C-B146-923D8A7F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FD8-DEE6-4EED-9D8F-919EC5C4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1C6D-E219-4342-AC8B-A92A9835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F8D5-9B33-4585-9E8C-1B5488BC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1C50-6EC8-4630-88B9-51F71676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83FD-1B23-4B26-A871-53999E47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13C-A01D-4E47-ACE9-67729420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4A59-734D-4AA3-A065-516222D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C39A-7FD5-4B8B-8139-1151FD5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C8A-6F25-45B8-8ECF-D2D0063B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583E-DF7B-44B7-ACFB-AE710AFE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12FD-18D1-4D30-9C11-DA45AEF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641C-D400-4DAB-ACDF-66DDB3C1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79CF-5DDF-4935-9415-2824F88F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BC2E-E393-4FFB-829E-6084F85E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D21-8F1A-4709-A41D-96821665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373-5D23-4778-8CCF-0FC36C47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372-D90C-4903-B350-9E77BFBE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D8A-FBED-4717-976F-15945ECC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E46-92FC-4125-A530-3D96ABB2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DBF-ADAA-4CB6-A64E-B3AA0553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BF2-10A8-497F-BA1B-17104611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09DC-91A3-47AA-A475-14333C5B62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399C-AD8F-45B6-9869-70ECEF970B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26600" y="2438280"/>
            <a:ext cx="87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cientific Method is used by research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or disprove a theory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6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63080" y="2286000"/>
            <a:ext cx="796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xperi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figure out a way to te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ther the hypothesis is correct. T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come must be something that 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measu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AMPROBLE"/>
          <p:cNvPicPr/>
          <p:nvPr/>
        </p:nvPicPr>
        <p:blipFill>
          <a:blip r:embed="rId2"/>
          <a:stretch/>
        </p:blipFill>
        <p:spPr>
          <a:xfrm>
            <a:off x="5486400" y="3276720"/>
            <a:ext cx="3429000" cy="3368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85800" y="48769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You replace the battery in the remote contro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4: Analyze Your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your results and decide what they tell you about you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MCBD06630_0000[1]"/>
          <p:cNvPicPr/>
          <p:nvPr/>
        </p:nvPicPr>
        <p:blipFill>
          <a:blip r:embed="rId1"/>
          <a:stretch/>
        </p:blipFill>
        <p:spPr>
          <a:xfrm>
            <a:off x="4343400" y="3581280"/>
            <a:ext cx="3200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0880" y="19810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do the experiment using the method you came up with and record the results. You repeat the experiment to confirm your results by retesting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AMDISAST"/>
          <p:cNvPicPr/>
          <p:nvPr/>
        </p:nvPicPr>
        <p:blipFill>
          <a:blip r:embed="rId2"/>
          <a:stretch/>
        </p:blipFill>
        <p:spPr>
          <a:xfrm>
            <a:off x="5445000" y="4038480"/>
            <a:ext cx="3699000" cy="2819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533520" y="4648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You press the power button again and the TV turns 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0880" y="2209680"/>
            <a:ext cx="57150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e Conclu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state whether your prediction was confirmed or not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The remote control needed a new battery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munic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try to explain and share your results with othe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Tell others in your family that you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xed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he remote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bigmouth"/>
          <p:cNvPicPr/>
          <p:nvPr/>
        </p:nvPicPr>
        <p:blipFill>
          <a:blip r:embed="rId2"/>
          <a:stretch/>
        </p:blipFill>
        <p:spPr>
          <a:xfrm>
            <a:off x="6629400" y="2666880"/>
            <a:ext cx="2076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5: Form a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de what the answer to your question is and ask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my hypothesis right or wrong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I need to do the experiment again to find out more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MCj04298270000[1]"/>
          <p:cNvPicPr/>
          <p:nvPr/>
        </p:nvPicPr>
        <p:blipFill>
          <a:blip r:embed="rId1"/>
          <a:stretch/>
        </p:blipFill>
        <p:spPr>
          <a:xfrm>
            <a:off x="6068880" y="4191120"/>
            <a:ext cx="19735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838080" y="24382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experience through your senses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1447920" y="4038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se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he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feel (touch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1523880" y="26668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think is happe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opinion of what is happe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Scientific Metho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series of steps to follow to answer a question or solve a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are 7 main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MCj02979350000[1]"/>
          <p:cNvPicPr/>
          <p:nvPr/>
        </p:nvPicPr>
        <p:blipFill>
          <a:blip r:embed="rId1"/>
          <a:stretch/>
        </p:blipFill>
        <p:spPr>
          <a:xfrm rot="798000">
            <a:off x="5867280" y="3581280"/>
            <a:ext cx="19544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2590920"/>
            <a:ext cx="7467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Results (analyz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hem01"/>
          <p:cNvPicPr/>
          <p:nvPr/>
        </p:nvPicPr>
        <p:blipFill>
          <a:blip r:embed="rId2"/>
          <a:stretch/>
        </p:blipFill>
        <p:spPr>
          <a:xfrm>
            <a:off x="2133720" y="2666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hem01"/>
          <p:cNvPicPr/>
          <p:nvPr/>
        </p:nvPicPr>
        <p:blipFill>
          <a:blip r:embed="rId3"/>
          <a:stretch/>
        </p:blipFill>
        <p:spPr>
          <a:xfrm>
            <a:off x="2133720" y="4648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hem01"/>
          <p:cNvPicPr/>
          <p:nvPr/>
        </p:nvPicPr>
        <p:blipFill>
          <a:blip r:embed="rId4"/>
          <a:stretch/>
        </p:blipFill>
        <p:spPr>
          <a:xfrm>
            <a:off x="2133720" y="4191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hem01"/>
          <p:cNvPicPr/>
          <p:nvPr/>
        </p:nvPicPr>
        <p:blipFill>
          <a:blip r:embed="rId5"/>
          <a:stretch/>
        </p:blipFill>
        <p:spPr>
          <a:xfrm>
            <a:off x="2133720" y="3657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hem01"/>
          <p:cNvPicPr/>
          <p:nvPr/>
        </p:nvPicPr>
        <p:blipFill>
          <a:blip r:embed="rId6"/>
          <a:stretch/>
        </p:blipFill>
        <p:spPr>
          <a:xfrm>
            <a:off x="2133720" y="3200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hem01"/>
          <p:cNvPicPr/>
          <p:nvPr/>
        </p:nvPicPr>
        <p:blipFill>
          <a:blip r:embed="rId7"/>
          <a:stretch/>
        </p:blipFill>
        <p:spPr>
          <a:xfrm>
            <a:off x="2133720" y="5181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hem01"/>
          <p:cNvPicPr/>
          <p:nvPr/>
        </p:nvPicPr>
        <p:blipFill>
          <a:blip r:embed="rId8"/>
          <a:stretch/>
        </p:blipFill>
        <p:spPr>
          <a:xfrm>
            <a:off x="2133720" y="5638680"/>
            <a:ext cx="365040" cy="3654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304920" y="20574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Scientific Method involves 7 step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1: Ask a Ques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sts ask questions based on observations from their surrou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MCj04344110000[1]"/>
          <p:cNvPicPr/>
          <p:nvPr/>
        </p:nvPicPr>
        <p:blipFill>
          <a:blip r:embed="rId1"/>
          <a:stretch/>
        </p:blipFill>
        <p:spPr>
          <a:xfrm>
            <a:off x="5410080" y="3809880"/>
            <a:ext cx="2167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782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ement of Probl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ask a question about what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bserv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TV does not turn on when you press the power button on the remote contro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state the problem or question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The remote is not wor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MCONFUS"/>
          <p:cNvPicPr/>
          <p:nvPr/>
        </p:nvPicPr>
        <p:blipFill>
          <a:blip r:embed="rId2"/>
          <a:stretch/>
        </p:blipFill>
        <p:spPr>
          <a:xfrm>
            <a:off x="6172200" y="20574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44956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EGIN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629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2: Form a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an educated guess about what you think the answer is to you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MCj00822790000[1]"/>
          <p:cNvPicPr/>
          <p:nvPr/>
        </p:nvPicPr>
        <p:blipFill>
          <a:blip r:embed="rId1"/>
          <a:stretch/>
        </p:blipFill>
        <p:spPr>
          <a:xfrm>
            <a:off x="4876920" y="3581280"/>
            <a:ext cx="284796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2514600"/>
            <a:ext cx="5410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predict what you think the answer to your question might 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Maybe the remote needs a new batter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MIDEA"/>
          <p:cNvPicPr/>
          <p:nvPr/>
        </p:nvPicPr>
        <p:blipFill>
          <a:blip r:embed="rId2"/>
          <a:stretch/>
        </p:blipFill>
        <p:spPr>
          <a:xfrm>
            <a:off x="6400800" y="2057400"/>
            <a:ext cx="1295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3: Test your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up an experiment to test you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MCj0292116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3106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3: Test your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up an experiment to test you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MCj0292116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3106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0:42:23Z</dcterms:created>
  <dc:creator>SSC</dc:creator>
  <dc:description/>
  <dc:language>en-US</dc:language>
  <cp:lastModifiedBy>St. Aloysius</cp:lastModifiedBy>
  <dcterms:modified xsi:type="dcterms:W3CDTF">2013-08-26T15:44:50Z</dcterms:modified>
  <cp:revision>22</cp:revision>
  <dc:subject/>
  <dc:title>The Scientific Method</dc:title>
</cp:coreProperties>
</file>